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1800" y="-5040"/>
            <a:ext cx="303516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963600" y="-5040"/>
            <a:ext cx="303516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-1800" y="8818200"/>
            <a:ext cx="303516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3"/>
          </p:nvPr>
        </p:nvSpPr>
        <p:spPr>
          <a:xfrm>
            <a:off x="3963600" y="8818200"/>
            <a:ext cx="303516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5291BE9-74D9-4CDD-A67F-EC99C90D1C7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862000" y="8840880"/>
            <a:ext cx="12740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C994AB8A-6387-4D4A-A471-B880722D3774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Img"/>
          </p:nvPr>
        </p:nvSpPr>
        <p:spPr>
          <a:xfrm>
            <a:off x="1188720" y="704880"/>
            <a:ext cx="4621320" cy="346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body"/>
          </p:nvPr>
        </p:nvSpPr>
        <p:spPr>
          <a:xfrm>
            <a:off x="931680" y="440640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BD13344-63CA-4ED5-BE9A-EBE624B49B9B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D1B85DD-3F56-4E3F-AE8F-53DCE95E7066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52057C7-2ECA-4340-BD7F-380D071550C8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75F57EE-256B-492B-B52D-59C3D5A727A1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640" y="6566040"/>
            <a:ext cx="18097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236840" y="6567480"/>
            <a:ext cx="754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uly 2004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460840" y="6564240"/>
            <a:ext cx="36831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Introduction to Personal Process - Module 1 - </a:t>
            </a:r>
            <a:fld id="{C1513F91-C43E-42A9-9E82-56A8A7875D96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3496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995400" y="4967280"/>
            <a:ext cx="7313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4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992160" y="7048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238280" y="6567480"/>
            <a:ext cx="754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uly 2004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5292720" y="6564240"/>
            <a:ext cx="3841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Introduction to Personal Process - Module 1 - </a:t>
            </a:r>
            <a:fld id="{D308221B-60B9-4CBF-AFB5-E4F645102A0C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913320" y="66816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9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998640" y="1278000"/>
            <a:ext cx="76564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Introduction to Personal Process</a:t>
            </a:r>
            <a:endParaRPr b="0" lang="en-US" sz="3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br>
              <a:rPr sz="2700"/>
            </a:br>
            <a:r>
              <a:rPr b="0" lang="en-US" sz="4500" spc="-1" strike="noStrike">
                <a:solidFill>
                  <a:srgbClr val="39536b"/>
                </a:solidFill>
                <a:latin typeface="Arial Narrow"/>
              </a:rPr>
              <a:t>Module 3: Personal Processes</a:t>
            </a:r>
            <a:br>
              <a:rPr sz="5400"/>
            </a:br>
            <a:endParaRPr b="0" lang="en-US" sz="45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036800" y="3225960"/>
            <a:ext cx="731520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80640" y="979200"/>
            <a:ext cx="777708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Why Define and Use a Personal Process?</a:t>
            </a:r>
            <a:endParaRPr b="1" lang="en-US" sz="28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nefits of a personal process includ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sistenc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fficienc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asis for improv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next slides will discuss these poi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nsistenc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a defined personal process helps you to achieve consistent results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r results are more likely to be similar each time that you use the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r work becomes more predictab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fficienc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a defined personal process helps you to be more efficient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structures and guides your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rders the step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voids re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keeps you focused on what needs to be don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ewer restar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 interrup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can accomplish your work in less tim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Basis for Improvem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y gathering data on your work, you can determine which step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ake the most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use you the most troub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e least effectiv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this information, you can identify opportunities for improving your results by making changes to your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PSP Process Framework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ur main goal for this course is to prepare you to work as a member of a team that is using the TS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a TSP team member, you will need defined personal work processes to plan and guide your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a checkbook-balancing process as an example, we will now introduce the PSP process frame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PSP Process Elemen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968400" y="1506600"/>
            <a:ext cx="1623960" cy="1120680"/>
          </a:xfrm>
          <a:prstGeom prst="rect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762360" y="1479600"/>
            <a:ext cx="5315040" cy="8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Document the process entry criteria, phases/ steps, and exit criteria. The purpose is to guide you as you use the proces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135" name="Object 6"/>
          <p:cNvGraphicFramePr/>
          <p:nvPr/>
        </p:nvGraphicFramePr>
        <p:xfrm>
          <a:off x="1000080" y="1492200"/>
          <a:ext cx="1542960" cy="112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1492200"/>
                    <a:ext cx="1542960" cy="11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Text Box 7"/>
          <p:cNvSpPr/>
          <p:nvPr/>
        </p:nvSpPr>
        <p:spPr>
          <a:xfrm>
            <a:off x="2489400" y="1479600"/>
            <a:ext cx="9802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9c2108"/>
                </a:solidFill>
                <a:latin typeface="Arial"/>
              </a:rPr>
              <a:t>Script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38" name="Object 8" descr=""/>
          <p:cNvPicPr/>
          <p:nvPr/>
        </p:nvPicPr>
        <p:blipFill>
          <a:blip r:embed="rId3"/>
          <a:stretch/>
        </p:blipFill>
        <p:spPr>
          <a:xfrm>
            <a:off x="963720" y="2801880"/>
            <a:ext cx="1303200" cy="5428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9"/>
          <p:cNvSpPr/>
          <p:nvPr/>
        </p:nvSpPr>
        <p:spPr>
          <a:xfrm>
            <a:off x="2519280" y="2814480"/>
            <a:ext cx="12574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9c2108"/>
                </a:solidFill>
                <a:latin typeface="Arial"/>
              </a:rPr>
              <a:t>Measure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3762360" y="2803680"/>
            <a:ext cx="4977000" cy="8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Measure the process and the product. They provide insight into how the process is working and the status of the work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141" name="Object 11"/>
          <p:cNvGraphicFramePr/>
          <p:nvPr/>
        </p:nvGraphicFramePr>
        <p:xfrm>
          <a:off x="1004760" y="3706920"/>
          <a:ext cx="1219320" cy="16524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42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4760" y="3706920"/>
                    <a:ext cx="1219320" cy="1652400"/>
                  </a:xfrm>
                  <a:prstGeom prst="rect">
                    <a:avLst/>
                  </a:prstGeom>
                  <a:ln w="3240">
                    <a:solidFill>
                      <a:srgbClr val="87abb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3" name="Text Box 12"/>
          <p:cNvSpPr/>
          <p:nvPr/>
        </p:nvSpPr>
        <p:spPr>
          <a:xfrm>
            <a:off x="2503800" y="4010040"/>
            <a:ext cx="9039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9c2108"/>
                </a:solidFill>
                <a:latin typeface="Arial"/>
              </a:rPr>
              <a:t>Form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3762360" y="4032360"/>
            <a:ext cx="4657680" cy="8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Provide a convenient and consistent framework for gathering and retaining data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2489400" y="5815080"/>
            <a:ext cx="13230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9c2108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3762360" y="5815080"/>
            <a:ext cx="4361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Provide consistent definitions that guide the work and gathering of data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47" name="Object 16" descr=""/>
          <p:cNvPicPr/>
          <p:nvPr/>
        </p:nvPicPr>
        <p:blipFill>
          <a:blip r:embed="rId6"/>
          <a:stretch/>
        </p:blipFill>
        <p:spPr>
          <a:xfrm>
            <a:off x="985680" y="5537160"/>
            <a:ext cx="97164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utting the Elements Togeth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9" name="Rectangle 39"/>
          <p:cNvSpPr/>
          <p:nvPr/>
        </p:nvSpPr>
        <p:spPr>
          <a:xfrm>
            <a:off x="3507840" y="1476360"/>
            <a:ext cx="896760" cy="3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Input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0" name="Line 41"/>
          <p:cNvSpPr/>
          <p:nvPr/>
        </p:nvSpPr>
        <p:spPr>
          <a:xfrm flipV="1">
            <a:off x="1432080" y="3565080"/>
            <a:ext cx="1063440" cy="1800"/>
          </a:xfrm>
          <a:prstGeom prst="line">
            <a:avLst/>
          </a:prstGeom>
          <a:ln w="12600">
            <a:solidFill>
              <a:srgbClr val="cc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1" name="Rectangle 42"/>
          <p:cNvSpPr/>
          <p:nvPr/>
        </p:nvSpPr>
        <p:spPr>
          <a:xfrm>
            <a:off x="6456240" y="3200400"/>
            <a:ext cx="911520" cy="1255680"/>
          </a:xfrm>
          <a:prstGeom prst="rect">
            <a:avLst/>
          </a:prstGeom>
          <a:solidFill>
            <a:srgbClr val="9c2108"/>
          </a:solidFill>
          <a:ln w="12600">
            <a:solidFill>
              <a:srgbClr val="efe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2" name="Arc 43"/>
          <p:cNvSpPr/>
          <p:nvPr/>
        </p:nvSpPr>
        <p:spPr>
          <a:xfrm>
            <a:off x="5419800" y="2362320"/>
            <a:ext cx="1044360" cy="653760"/>
          </a:xfrm>
          <a:custGeom>
            <a:avLst/>
            <a:gdLst/>
            <a:ahLst/>
            <a:rect l="l" t="t" r="r" b="b"/>
            <a:pathLst>
              <a:path fill="none" w="21642" h="21600">
                <a:moveTo>
                  <a:pt x="0" y="0"/>
                </a:moveTo>
                <a:cubicBezTo>
                  <a:pt x="14" y="0"/>
                  <a:pt x="28" y="-1"/>
                  <a:pt x="42" y="0"/>
                </a:cubicBezTo>
                <a:cubicBezTo>
                  <a:pt x="11945" y="0"/>
                  <a:pt x="21605" y="9630"/>
                  <a:pt x="21641" y="21534"/>
                </a:cubicBezTo>
              </a:path>
              <a:path stroke="0" w="21642" h="21600">
                <a:moveTo>
                  <a:pt x="0" y="0"/>
                </a:moveTo>
                <a:cubicBezTo>
                  <a:pt x="14" y="0"/>
                  <a:pt x="28" y="-1"/>
                  <a:pt x="42" y="0"/>
                </a:cubicBezTo>
                <a:cubicBezTo>
                  <a:pt x="11945" y="0"/>
                  <a:pt x="21605" y="9630"/>
                  <a:pt x="21641" y="21534"/>
                </a:cubicBezTo>
                <a:lnTo>
                  <a:pt x="42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cc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3" name="Arc 44"/>
          <p:cNvSpPr/>
          <p:nvPr/>
        </p:nvSpPr>
        <p:spPr>
          <a:xfrm>
            <a:off x="5443560" y="4672080"/>
            <a:ext cx="1020600" cy="655560"/>
          </a:xfrm>
          <a:custGeom>
            <a:avLst/>
            <a:gdLst/>
            <a:ahLst/>
            <a:rect l="l" t="t" r="r" b="b"/>
            <a:pathLst>
              <a:path fill="none" w="21600" h="21666">
                <a:moveTo>
                  <a:pt x="21599" y="0"/>
                </a:moveTo>
                <a:cubicBezTo>
                  <a:pt x="21599" y="22"/>
                  <a:pt x="21600" y="44"/>
                  <a:pt x="21600" y="66"/>
                </a:cubicBezTo>
                <a:cubicBezTo>
                  <a:pt x="21600" y="11995"/>
                  <a:pt x="11929" y="21665"/>
                  <a:pt x="0" y="21666"/>
                </a:cubicBezTo>
              </a:path>
              <a:path stroke="0" w="21600" h="21666">
                <a:moveTo>
                  <a:pt x="21599" y="0"/>
                </a:moveTo>
                <a:cubicBezTo>
                  <a:pt x="21599" y="22"/>
                  <a:pt x="21600" y="44"/>
                  <a:pt x="21600" y="66"/>
                </a:cubicBezTo>
                <a:cubicBezTo>
                  <a:pt x="21600" y="11995"/>
                  <a:pt x="11929" y="21665"/>
                  <a:pt x="0" y="21666"/>
                </a:cubicBezTo>
                <a:lnTo>
                  <a:pt x="0" y="66"/>
                </a:lnTo>
                <a:lnTo>
                  <a:pt x="21599" y="0"/>
                </a:lnTo>
                <a:close/>
              </a:path>
            </a:pathLst>
          </a:custGeom>
          <a:noFill/>
          <a:ln cap="rnd" w="12600">
            <a:solidFill>
              <a:srgbClr val="cccc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4" name="Arc 45"/>
          <p:cNvSpPr/>
          <p:nvPr/>
        </p:nvSpPr>
        <p:spPr>
          <a:xfrm>
            <a:off x="5443560" y="4113360"/>
            <a:ext cx="826920" cy="142560"/>
          </a:xfrm>
          <a:custGeom>
            <a:avLst/>
            <a:gdLst/>
            <a:ahLst/>
            <a:rect l="l" t="t" r="r" b="b"/>
            <a:pathLst>
              <a:path fill="none" w="21600" h="21909">
                <a:moveTo>
                  <a:pt x="21597" y="0"/>
                </a:moveTo>
                <a:cubicBezTo>
                  <a:pt x="21599" y="102"/>
                  <a:pt x="21600" y="205"/>
                  <a:pt x="21600" y="309"/>
                </a:cubicBezTo>
                <a:cubicBezTo>
                  <a:pt x="21600" y="12238"/>
                  <a:pt x="11929" y="21908"/>
                  <a:pt x="0" y="21909"/>
                </a:cubicBezTo>
              </a:path>
              <a:path stroke="0" w="21600" h="21909">
                <a:moveTo>
                  <a:pt x="21597" y="0"/>
                </a:moveTo>
                <a:cubicBezTo>
                  <a:pt x="21599" y="102"/>
                  <a:pt x="21600" y="205"/>
                  <a:pt x="21600" y="309"/>
                </a:cubicBezTo>
                <a:cubicBezTo>
                  <a:pt x="21600" y="12238"/>
                  <a:pt x="11929" y="21908"/>
                  <a:pt x="0" y="21909"/>
                </a:cubicBezTo>
                <a:lnTo>
                  <a:pt x="0" y="309"/>
                </a:lnTo>
                <a:lnTo>
                  <a:pt x="21597" y="0"/>
                </a:lnTo>
                <a:close/>
              </a:path>
            </a:pathLst>
          </a:custGeom>
          <a:noFill/>
          <a:ln cap="rnd" w="12600">
            <a:solidFill>
              <a:srgbClr val="cccc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5" name="Arc 46"/>
          <p:cNvSpPr/>
          <p:nvPr/>
        </p:nvSpPr>
        <p:spPr>
          <a:xfrm>
            <a:off x="5427720" y="3335400"/>
            <a:ext cx="850680" cy="185760"/>
          </a:xfrm>
          <a:custGeom>
            <a:avLst/>
            <a:gdLst/>
            <a:ahLst/>
            <a:rect l="l" t="t" r="r" b="b"/>
            <a:pathLst>
              <a:path fill="none" w="21651" h="21600">
                <a:moveTo>
                  <a:pt x="0" y="0"/>
                </a:moveTo>
                <a:cubicBezTo>
                  <a:pt x="17" y="0"/>
                  <a:pt x="34" y="-1"/>
                  <a:pt x="51" y="0"/>
                </a:cubicBezTo>
                <a:cubicBezTo>
                  <a:pt x="11980" y="0"/>
                  <a:pt x="21651" y="9670"/>
                  <a:pt x="21651" y="21600"/>
                </a:cubicBezTo>
              </a:path>
              <a:path stroke="0" w="21651" h="21600">
                <a:moveTo>
                  <a:pt x="0" y="0"/>
                </a:moveTo>
                <a:cubicBezTo>
                  <a:pt x="17" y="0"/>
                  <a:pt x="34" y="-1"/>
                  <a:pt x="51" y="0"/>
                </a:cubicBezTo>
                <a:cubicBezTo>
                  <a:pt x="11980" y="0"/>
                  <a:pt x="21651" y="9670"/>
                  <a:pt x="21651" y="21600"/>
                </a:cubicBezTo>
                <a:lnTo>
                  <a:pt x="51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cc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6" name="Line 47"/>
          <p:cNvSpPr/>
          <p:nvPr/>
        </p:nvSpPr>
        <p:spPr>
          <a:xfrm>
            <a:off x="5454720" y="3813120"/>
            <a:ext cx="75240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7" name="Rectangle 48"/>
          <p:cNvSpPr/>
          <p:nvPr/>
        </p:nvSpPr>
        <p:spPr>
          <a:xfrm>
            <a:off x="7765920" y="4280040"/>
            <a:ext cx="1125720" cy="1285560"/>
          </a:xfrm>
          <a:prstGeom prst="rect">
            <a:avLst/>
          </a:prstGeom>
          <a:solidFill>
            <a:srgbClr val="9c2108"/>
          </a:solidFill>
          <a:ln w="12600">
            <a:solidFill>
              <a:srgbClr val="efe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efede5"/>
                </a:solidFill>
                <a:latin typeface="Arial"/>
              </a:rPr>
              <a:t>Project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efede5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efede5"/>
                </a:solidFill>
                <a:latin typeface="Arial"/>
              </a:rPr>
              <a:t>summary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8" name="Arc 49"/>
          <p:cNvSpPr/>
          <p:nvPr/>
        </p:nvSpPr>
        <p:spPr>
          <a:xfrm>
            <a:off x="5440320" y="2340000"/>
            <a:ext cx="3272040" cy="1936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12" y="0"/>
                </a:moveTo>
                <a:cubicBezTo>
                  <a:pt x="11937" y="7"/>
                  <a:pt x="21600" y="9675"/>
                  <a:pt x="21600" y="21600"/>
                </a:cubicBezTo>
              </a:path>
              <a:path stroke="0" w="21600" h="21600">
                <a:moveTo>
                  <a:pt x="12" y="0"/>
                </a:moveTo>
                <a:cubicBezTo>
                  <a:pt x="11937" y="7"/>
                  <a:pt x="21600" y="9675"/>
                  <a:pt x="21600" y="21600"/>
                </a:cubicBezTo>
                <a:lnTo>
                  <a:pt x="0" y="21600"/>
                </a:lnTo>
                <a:lnTo>
                  <a:pt x="12" y="0"/>
                </a:lnTo>
                <a:close/>
              </a:path>
            </a:pathLst>
          </a:custGeom>
          <a:noFill/>
          <a:ln cap="rnd" w="12600">
            <a:solidFill>
              <a:srgbClr val="cccc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9" name="Arc 50"/>
          <p:cNvSpPr/>
          <p:nvPr/>
        </p:nvSpPr>
        <p:spPr>
          <a:xfrm>
            <a:off x="7407360" y="3784680"/>
            <a:ext cx="804600" cy="482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cccc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0" name="Rectangle 51"/>
          <p:cNvSpPr/>
          <p:nvPr/>
        </p:nvSpPr>
        <p:spPr>
          <a:xfrm>
            <a:off x="2709360" y="6107040"/>
            <a:ext cx="2481840" cy="3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Balanced checkbook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1" name="Line 52"/>
          <p:cNvSpPr/>
          <p:nvPr/>
        </p:nvSpPr>
        <p:spPr>
          <a:xfrm>
            <a:off x="8400960" y="5584680"/>
            <a:ext cx="0" cy="344520"/>
          </a:xfrm>
          <a:prstGeom prst="line">
            <a:avLst/>
          </a:prstGeom>
          <a:ln w="12600">
            <a:solidFill>
              <a:srgbClr val="cc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2" name="Rectangle 53"/>
          <p:cNvSpPr/>
          <p:nvPr/>
        </p:nvSpPr>
        <p:spPr>
          <a:xfrm>
            <a:off x="6530400" y="5889600"/>
            <a:ext cx="248040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Project and proces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data summary report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3" name="Arc 54"/>
          <p:cNvSpPr/>
          <p:nvPr/>
        </p:nvSpPr>
        <p:spPr>
          <a:xfrm>
            <a:off x="5423040" y="4498920"/>
            <a:ext cx="828360" cy="273240"/>
          </a:xfrm>
          <a:custGeom>
            <a:avLst/>
            <a:gdLst/>
            <a:ahLst/>
            <a:rect l="l" t="t" r="r" b="b"/>
            <a:pathLst>
              <a:path fill="none" w="21600" h="21760">
                <a:moveTo>
                  <a:pt x="21599" y="-1"/>
                </a:moveTo>
                <a:cubicBezTo>
                  <a:pt x="21599" y="53"/>
                  <a:pt x="21600" y="106"/>
                  <a:pt x="21600" y="160"/>
                </a:cubicBezTo>
                <a:cubicBezTo>
                  <a:pt x="21600" y="12089"/>
                  <a:pt x="11929" y="21759"/>
                  <a:pt x="0" y="21760"/>
                </a:cubicBezTo>
              </a:path>
              <a:path stroke="0" w="21600" h="21760">
                <a:moveTo>
                  <a:pt x="21599" y="-1"/>
                </a:moveTo>
                <a:cubicBezTo>
                  <a:pt x="21599" y="53"/>
                  <a:pt x="21600" y="106"/>
                  <a:pt x="21600" y="160"/>
                </a:cubicBezTo>
                <a:cubicBezTo>
                  <a:pt x="21600" y="12089"/>
                  <a:pt x="11929" y="21759"/>
                  <a:pt x="0" y="21760"/>
                </a:cubicBezTo>
                <a:lnTo>
                  <a:pt x="0" y="160"/>
                </a:lnTo>
                <a:lnTo>
                  <a:pt x="21599" y="-1"/>
                </a:lnTo>
                <a:close/>
              </a:path>
            </a:pathLst>
          </a:custGeom>
          <a:noFill/>
          <a:ln cap="rnd" w="12600">
            <a:solidFill>
              <a:srgbClr val="cccc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4" name="Rectangle 55"/>
          <p:cNvSpPr/>
          <p:nvPr/>
        </p:nvSpPr>
        <p:spPr>
          <a:xfrm>
            <a:off x="6323040" y="3292560"/>
            <a:ext cx="907920" cy="1231920"/>
          </a:xfrm>
          <a:prstGeom prst="rect">
            <a:avLst/>
          </a:prstGeom>
          <a:solidFill>
            <a:srgbClr val="9c2108"/>
          </a:solidFill>
          <a:ln w="12600">
            <a:solidFill>
              <a:srgbClr val="efe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efede5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efede5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efede5"/>
                </a:solidFill>
                <a:latin typeface="Arial"/>
              </a:rPr>
              <a:t>defect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efede5"/>
                </a:solidFill>
                <a:latin typeface="Arial"/>
              </a:rPr>
              <a:t>log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5" name="Line 56"/>
          <p:cNvSpPr/>
          <p:nvPr/>
        </p:nvSpPr>
        <p:spPr>
          <a:xfrm>
            <a:off x="3960720" y="5908680"/>
            <a:ext cx="0" cy="282600"/>
          </a:xfrm>
          <a:prstGeom prst="line">
            <a:avLst/>
          </a:prstGeom>
          <a:ln w="12600">
            <a:solidFill>
              <a:srgbClr val="cc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6" name="Rectangle 65"/>
          <p:cNvSpPr/>
          <p:nvPr/>
        </p:nvSpPr>
        <p:spPr>
          <a:xfrm>
            <a:off x="1490760" y="3197160"/>
            <a:ext cx="844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guid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7" name="Freeform 66"/>
          <p:cNvSpPr/>
          <p:nvPr/>
        </p:nvSpPr>
        <p:spPr>
          <a:xfrm>
            <a:off x="1393920" y="2365200"/>
            <a:ext cx="1062000" cy="890640"/>
          </a:xfrm>
          <a:custGeom>
            <a:avLst/>
            <a:gdLst/>
            <a:ahLst/>
            <a:rect l="l" t="t" r="r" b="b"/>
            <a:pathLst>
              <a:path w="528" h="445">
                <a:moveTo>
                  <a:pt x="0" y="444"/>
                </a:moveTo>
                <a:lnTo>
                  <a:pt x="86" y="424"/>
                </a:lnTo>
                <a:lnTo>
                  <a:pt x="172" y="398"/>
                </a:lnTo>
                <a:lnTo>
                  <a:pt x="212" y="383"/>
                </a:lnTo>
                <a:lnTo>
                  <a:pt x="249" y="366"/>
                </a:lnTo>
                <a:lnTo>
                  <a:pt x="287" y="343"/>
                </a:lnTo>
                <a:lnTo>
                  <a:pt x="322" y="317"/>
                </a:lnTo>
                <a:lnTo>
                  <a:pt x="354" y="288"/>
                </a:lnTo>
                <a:lnTo>
                  <a:pt x="382" y="254"/>
                </a:lnTo>
                <a:lnTo>
                  <a:pt x="410" y="216"/>
                </a:lnTo>
                <a:lnTo>
                  <a:pt x="436" y="176"/>
                </a:lnTo>
                <a:lnTo>
                  <a:pt x="483" y="90"/>
                </a:lnTo>
                <a:lnTo>
                  <a:pt x="527" y="0"/>
                </a:lnTo>
              </a:path>
            </a:pathLst>
          </a:custGeom>
          <a:noFill/>
          <a:ln cap="rnd" w="12600">
            <a:solidFill>
              <a:srgbClr val="cccc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8" name="Freeform 67"/>
          <p:cNvSpPr/>
          <p:nvPr/>
        </p:nvSpPr>
        <p:spPr>
          <a:xfrm>
            <a:off x="1400040" y="3905280"/>
            <a:ext cx="1063800" cy="890640"/>
          </a:xfrm>
          <a:custGeom>
            <a:avLst/>
            <a:gdLst/>
            <a:ahLst/>
            <a:rect l="l" t="t" r="r" b="b"/>
            <a:pathLst>
              <a:path w="530" h="445">
                <a:moveTo>
                  <a:pt x="0" y="0"/>
                </a:moveTo>
                <a:lnTo>
                  <a:pt x="87" y="20"/>
                </a:lnTo>
                <a:lnTo>
                  <a:pt x="173" y="45"/>
                </a:lnTo>
                <a:lnTo>
                  <a:pt x="253" y="82"/>
                </a:lnTo>
                <a:lnTo>
                  <a:pt x="290" y="103"/>
                </a:lnTo>
                <a:lnTo>
                  <a:pt x="323" y="127"/>
                </a:lnTo>
                <a:lnTo>
                  <a:pt x="356" y="156"/>
                </a:lnTo>
                <a:lnTo>
                  <a:pt x="384" y="189"/>
                </a:lnTo>
                <a:lnTo>
                  <a:pt x="438" y="267"/>
                </a:lnTo>
                <a:lnTo>
                  <a:pt x="485" y="354"/>
                </a:lnTo>
                <a:lnTo>
                  <a:pt x="529" y="444"/>
                </a:lnTo>
              </a:path>
            </a:pathLst>
          </a:custGeom>
          <a:noFill/>
          <a:ln cap="rnd" w="12600">
            <a:solidFill>
              <a:srgbClr val="cccc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9" name="Text Box 68"/>
          <p:cNvSpPr/>
          <p:nvPr/>
        </p:nvSpPr>
        <p:spPr>
          <a:xfrm>
            <a:off x="149400" y="2873520"/>
            <a:ext cx="1225440" cy="1044720"/>
          </a:xfrm>
          <a:prstGeom prst="rect">
            <a:avLst/>
          </a:prstGeom>
          <a:solidFill>
            <a:srgbClr val="9c2108"/>
          </a:solidFill>
          <a:ln w="12600">
            <a:solidFill>
              <a:srgbClr val="efe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50480" bIns="1540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efede5"/>
                </a:solidFill>
                <a:latin typeface="Arial"/>
              </a:rPr>
              <a:t>Process scripts and standard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0" name="Line 71"/>
          <p:cNvSpPr/>
          <p:nvPr/>
        </p:nvSpPr>
        <p:spPr>
          <a:xfrm>
            <a:off x="3960720" y="1733400"/>
            <a:ext cx="0" cy="282600"/>
          </a:xfrm>
          <a:prstGeom prst="line">
            <a:avLst/>
          </a:prstGeom>
          <a:ln w="12600">
            <a:solidFill>
              <a:srgbClr val="cc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71" name="Group 89"/>
          <p:cNvGrpSpPr/>
          <p:nvPr/>
        </p:nvGrpSpPr>
        <p:grpSpPr>
          <a:xfrm>
            <a:off x="2489040" y="2000160"/>
            <a:ext cx="2905200" cy="3902040"/>
            <a:chOff x="2489040" y="2000160"/>
            <a:chExt cx="2905200" cy="3902040"/>
          </a:xfrm>
        </p:grpSpPr>
        <p:sp>
          <p:nvSpPr>
            <p:cNvPr id="172" name="Rectangle 57"/>
            <p:cNvSpPr/>
            <p:nvPr/>
          </p:nvSpPr>
          <p:spPr>
            <a:xfrm>
              <a:off x="2489040" y="2000160"/>
              <a:ext cx="2905200" cy="3902040"/>
            </a:xfrm>
            <a:prstGeom prst="rect">
              <a:avLst/>
            </a:prstGeom>
            <a:solidFill>
              <a:srgbClr val="87ab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95120" rIns="195120" tIns="150480" bIns="150480" anchor="t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heckbook process 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3" name="Text Box 82"/>
            <p:cNvSpPr/>
            <p:nvPr/>
          </p:nvSpPr>
          <p:spPr>
            <a:xfrm>
              <a:off x="2705040" y="2451240"/>
              <a:ext cx="2502000" cy="3392280"/>
            </a:xfrm>
            <a:prstGeom prst="rect">
              <a:avLst/>
            </a:prstGeom>
            <a:solidFill>
              <a:srgbClr val="87abb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286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lanning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  <a:p>
              <a:pPr marL="2286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ter data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  <a:p>
              <a:pPr marL="2286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lear transactions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  <a:p>
              <a:pPr marL="2286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pdate register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  <a:p>
              <a:pPr marL="2286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pdate bank statement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  <a:p>
              <a:pPr marL="2286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pare balances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  <a:p>
              <a:pPr marL="2286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stmortem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4" name="Line 83"/>
            <p:cNvSpPr/>
            <p:nvPr/>
          </p:nvSpPr>
          <p:spPr>
            <a:xfrm>
              <a:off x="2705040" y="2844720"/>
              <a:ext cx="250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5" name="Line 84"/>
            <p:cNvSpPr/>
            <p:nvPr/>
          </p:nvSpPr>
          <p:spPr>
            <a:xfrm>
              <a:off x="2705040" y="3301920"/>
              <a:ext cx="250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6" name="Line 85"/>
            <p:cNvSpPr/>
            <p:nvPr/>
          </p:nvSpPr>
          <p:spPr>
            <a:xfrm>
              <a:off x="2705040" y="3759120"/>
              <a:ext cx="250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7" name="Line 86"/>
            <p:cNvSpPr/>
            <p:nvPr/>
          </p:nvSpPr>
          <p:spPr>
            <a:xfrm>
              <a:off x="2705040" y="4191120"/>
              <a:ext cx="250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8" name="Line 87"/>
            <p:cNvSpPr/>
            <p:nvPr/>
          </p:nvSpPr>
          <p:spPr>
            <a:xfrm>
              <a:off x="2705040" y="4978440"/>
              <a:ext cx="250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9" name="Line 88"/>
            <p:cNvSpPr/>
            <p:nvPr/>
          </p:nvSpPr>
          <p:spPr>
            <a:xfrm>
              <a:off x="2705040" y="5410080"/>
              <a:ext cx="250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cripts in the Checkbook Proces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heckbook balancing process has one high-level scrip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2" name="Rectangle 101"/>
          <p:cNvSpPr/>
          <p:nvPr/>
        </p:nvSpPr>
        <p:spPr>
          <a:xfrm>
            <a:off x="973080" y="2165400"/>
            <a:ext cx="3032280" cy="4270320"/>
          </a:xfrm>
          <a:prstGeom prst="rect">
            <a:avLst/>
          </a:prstGeom>
          <a:solidFill>
            <a:srgbClr val="87ab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5120" rIns="195120" tIns="150480" bIns="150480" anchor="t">
            <a:normAutofit fontScale="99000"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ry Criteria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t Criteria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83" name="Group 119"/>
          <p:cNvGrpSpPr/>
          <p:nvPr/>
        </p:nvGrpSpPr>
        <p:grpSpPr>
          <a:xfrm>
            <a:off x="1168560" y="2603520"/>
            <a:ext cx="2501640" cy="3392280"/>
            <a:chOff x="1168560" y="2603520"/>
            <a:chExt cx="2501640" cy="3392280"/>
          </a:xfrm>
        </p:grpSpPr>
        <p:sp>
          <p:nvSpPr>
            <p:cNvPr id="184" name="Text Box 112"/>
            <p:cNvSpPr/>
            <p:nvPr/>
          </p:nvSpPr>
          <p:spPr>
            <a:xfrm>
              <a:off x="1168560" y="2603520"/>
              <a:ext cx="2501640" cy="339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286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lanning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  <a:p>
              <a:pPr marL="2286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ter data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  <a:p>
              <a:pPr marL="2286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lear transactions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  <a:p>
              <a:pPr marL="2286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pdate register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  <a:p>
              <a:pPr marL="2286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pdate bank statement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  <a:p>
              <a:pPr marL="2286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pare balances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  <a:p>
              <a:pPr marL="2286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stmortem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5" name="Line 113"/>
            <p:cNvSpPr/>
            <p:nvPr/>
          </p:nvSpPr>
          <p:spPr>
            <a:xfrm>
              <a:off x="1168560" y="2997000"/>
              <a:ext cx="250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6" name="Line 114"/>
            <p:cNvSpPr/>
            <p:nvPr/>
          </p:nvSpPr>
          <p:spPr>
            <a:xfrm>
              <a:off x="1168560" y="3454200"/>
              <a:ext cx="250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7" name="Line 115"/>
            <p:cNvSpPr/>
            <p:nvPr/>
          </p:nvSpPr>
          <p:spPr>
            <a:xfrm>
              <a:off x="1168560" y="3911400"/>
              <a:ext cx="250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8" name="Line 116"/>
            <p:cNvSpPr/>
            <p:nvPr/>
          </p:nvSpPr>
          <p:spPr>
            <a:xfrm>
              <a:off x="1168560" y="4343400"/>
              <a:ext cx="250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9" name="Line 117"/>
            <p:cNvSpPr/>
            <p:nvPr/>
          </p:nvSpPr>
          <p:spPr>
            <a:xfrm>
              <a:off x="1168560" y="5130720"/>
              <a:ext cx="250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90" name="Line 118"/>
            <p:cNvSpPr/>
            <p:nvPr/>
          </p:nvSpPr>
          <p:spPr>
            <a:xfrm>
              <a:off x="1168560" y="5562720"/>
              <a:ext cx="250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06560" y="928440"/>
            <a:ext cx="7866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Measures in the Checkbook Process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are three measures in the checkbook balancing PSP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ask time spent in each phase =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  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rt time - end time - interruption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ze measure =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  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umber of transac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s injected/removed in each phase =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ything that must be changed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               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the checkbook balance correctl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974880" y="2424240"/>
            <a:ext cx="730080" cy="985680"/>
          </a:xfrm>
          <a:prstGeom prst="rect">
            <a:avLst/>
          </a:prstGeom>
          <a:ln w="0">
            <a:noFill/>
          </a:ln>
        </p:spPr>
      </p:pic>
      <p:pic>
        <p:nvPicPr>
          <p:cNvPr id="194" name="Object 5" descr=""/>
          <p:cNvPicPr/>
          <p:nvPr/>
        </p:nvPicPr>
        <p:blipFill>
          <a:blip r:embed="rId2"/>
          <a:stretch/>
        </p:blipFill>
        <p:spPr>
          <a:xfrm>
            <a:off x="1039680" y="3656160"/>
            <a:ext cx="1303560" cy="542880"/>
          </a:xfrm>
          <a:prstGeom prst="rect">
            <a:avLst/>
          </a:prstGeom>
          <a:ln w="0">
            <a:noFill/>
          </a:ln>
        </p:spPr>
      </p:pic>
      <p:pic>
        <p:nvPicPr>
          <p:cNvPr id="195" name="Object 6" descr=""/>
          <p:cNvPicPr/>
          <p:nvPr/>
        </p:nvPicPr>
        <p:blipFill>
          <a:blip r:embed="rId3"/>
          <a:stretch/>
        </p:blipFill>
        <p:spPr>
          <a:xfrm>
            <a:off x="966960" y="4452840"/>
            <a:ext cx="105552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Forms in the Checkbook PSP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ata on the measures are recorded on for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ime log: records the time for each process ste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 log: records information on each defe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yp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hase injected and phase remov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ime to find and fix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crip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ject plan summary: records a summary of planned and actual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3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ime Log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017720" y="1709640"/>
            <a:ext cx="76802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ime log records the actual duration of each PSP pha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200" name="Object 4"/>
          <p:cNvGraphicFramePr/>
          <p:nvPr/>
        </p:nvGraphicFramePr>
        <p:xfrm>
          <a:off x="1000080" y="2163600"/>
          <a:ext cx="4740480" cy="441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2163600"/>
                    <a:ext cx="4740480" cy="44150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ime Log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017720" y="1709640"/>
            <a:ext cx="75024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rt:  time when the phase beg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op:  time when work ended, even if the phase is not yet finish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erruption time: time (in minutes) lost due to interrup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lta time:  elapsed time from start to stop, minus interruption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hase:  name of the phase currently in progr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ments:  any pertinent details that might later remind you of any unusual circumstances regarding this activ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 Recording Log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defect log holds information on each defect foun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206" name="Object 4"/>
          <p:cNvGraphicFramePr/>
          <p:nvPr/>
        </p:nvGraphicFramePr>
        <p:xfrm>
          <a:off x="1003320" y="2120760"/>
          <a:ext cx="5689440" cy="433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3320" y="2120760"/>
                    <a:ext cx="568944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5"/>
          <p:cNvSpPr/>
          <p:nvPr/>
        </p:nvSpPr>
        <p:spPr>
          <a:xfrm>
            <a:off x="960480" y="2095560"/>
            <a:ext cx="5719680" cy="3873600"/>
          </a:xfrm>
          <a:prstGeom prst="rect">
            <a:avLst/>
          </a:prstGeom>
          <a:noFill/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 Recording Log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Number:  unique number of the defect (each project starts over with number 1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ype:  defect type from the defect type standar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ject:  phase during which the defect was inject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move: phase in which the defect was found and fix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Fix time:  time that you took both to find and fix the defect. You may time it exactly, or use your best judgment as to the time spent.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scription:  succinct explanation of the error to help you later in recalling why you made the defec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ject Plan Summar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991800" y="155700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ject plan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mmary form hold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ning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ctual resul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im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umulative data on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 projects to da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213" name="Object 5"/>
          <p:cNvGraphicFramePr/>
          <p:nvPr/>
        </p:nvGraphicFramePr>
        <p:xfrm>
          <a:off x="3767040" y="1533600"/>
          <a:ext cx="4708800" cy="504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7040" y="1533600"/>
                    <a:ext cx="4708800" cy="50464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ject Plan Summary: Plann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the plan column, enter your best estimate of the total time that it will take to balance your checkboo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06200" y="92844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Project Plan Summary: Postmortem -1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ime actual: Enter the actual time in minutes (from the time log) that you spent in each phas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ime to date: Enter the total time spent in each phase to dat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For the first month, this will be the actual time spent in each phas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For later months, this will be the cumulative time spent so far in each phas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ime to date %:  Enter the percent of the total to date time that was spent in each phas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For the first month, this will be the actual time divided by the total tim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For later months, this will be the total time per phase divided by the total time to dat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06200" y="92844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Project Plan Summary: Postmortem -2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s injected and removed: Enter the actual number (from the defect log) of defects injected and removed in each phase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s to date: Enter the total defects injected and removed in each phase to d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s to date %: Enter the percent of the total to-date defects injected and removed in each pha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tandard for the Checkbook PSP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is a defect standard that defines the defect typ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223" name="Object 4"/>
          <p:cNvGraphicFramePr/>
          <p:nvPr/>
        </p:nvGraphicFramePr>
        <p:xfrm>
          <a:off x="950760" y="2090880"/>
          <a:ext cx="6330960" cy="43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2090880"/>
                    <a:ext cx="633096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personal process is an ordered set of steps that individuals use to guide their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ing and using a personal process helps individuals to plan, do, track, and improve their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cripts, measures, forms, and standards are elements of a good process definition, as illustrated by the PS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this module, you wil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what a personal process i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why it is useful to define and use a personal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now the PSP framework for describing a personal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979560" y="1696680"/>
            <a:ext cx="774360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 will go over the PSP scripts used in the checkbook process to help you understand the process phases and steps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we read Maris’s scenario, fill out the workbook pag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ime lo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 lo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ject plan summar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instructor will assist you in determining what goes in each field of the various for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224600" y="5894280"/>
            <a:ext cx="18514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t">
            <a:spAutoFit/>
          </a:bodyPr>
          <a:p>
            <a:pPr>
              <a:lnSpc>
                <a:spcPct val="90000"/>
              </a:lnSpc>
              <a:spcBef>
                <a:spcPts val="825"/>
              </a:spcBef>
              <a:buClr>
                <a:srgbClr val="39536b"/>
              </a:buClr>
              <a:buFont typeface="Arial"/>
              <a:buChar char=" "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25 minu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718080" y="5521320"/>
            <a:ext cx="73008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Feedback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what phase did Maris spend the most tim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what phase did Maris inject the most defect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what phase did Maris remove the most defect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does the defect injection/removal pattern imply about Maris’ proces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is a personal proces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y define, use, and measure a personal proces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 process frame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at is a Process?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process is a defined set of steps for doing a job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process guides your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process is usually defined for a job that is done multiple times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process provides a foundation for plann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proces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is a template, a generic set of step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plan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is a set of steps for a specific job, plus other things such as effort, costs, and dat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at is a Personal Process?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you use a process for your personal work, it is called a personal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is usually developed from your personal experienc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may start with a proven process that was developed by someone el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modify and improve the process to suit your need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ersonal Process Exercis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7920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y a process that you use, such a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etting ready fo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riving to a specific loc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aying your bil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aking cook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wing your law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rite down the steps of your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4609800" y="5408640"/>
            <a:ext cx="16182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t">
            <a:spAutoFit/>
          </a:bodyPr>
          <a:p>
            <a:pPr>
              <a:lnSpc>
                <a:spcPct val="90000"/>
              </a:lnSpc>
              <a:spcBef>
                <a:spcPts val="825"/>
              </a:spcBef>
              <a:buClr>
                <a:srgbClr val="39536b"/>
              </a:buClr>
              <a:buFont typeface="Arial"/>
              <a:buChar char=" "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"/>
              </a:rPr>
              <a:t>5 minu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4043520" y="5022720"/>
            <a:ext cx="730080" cy="9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Feedback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7920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documenting a process, it is common to specify th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quired inputs to the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eps of the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it criteria for the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teps are described only with enough detail to guide the user of the process; they are not a set of training instruc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next slide shows an example of a process for  balancing a checkboo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ample Personal Proces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20" name="Object 8"/>
          <p:cNvGraphicFramePr/>
          <p:nvPr/>
        </p:nvGraphicFramePr>
        <p:xfrm>
          <a:off x="752400" y="1784520"/>
          <a:ext cx="6753240" cy="441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1784520"/>
                    <a:ext cx="675324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22:13:36Z</dcterms:created>
  <dc:creator>Jim Over</dc:creator>
  <dc:description/>
  <cp:keywords/>
  <dc:language>en-US</dc:language>
  <cp:lastModifiedBy>wrn_loc_adm</cp:lastModifiedBy>
  <cp:lastPrinted>2000-01-10T19:47:34Z</cp:lastPrinted>
  <dcterms:modified xsi:type="dcterms:W3CDTF">2018-09-06T00:16:02Z</dcterms:modified>
  <cp:revision>173</cp:revision>
  <dc:subject/>
  <dc:title>No Slide Title</dc:title>
</cp:coreProperties>
</file>